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60280" y="682200"/>
            <a:ext cx="45385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6040" rIns="8604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14960"/>
            <a:ext cx="5486400" cy="4086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E44FFD8B-48E9-4D45-9F9D-B324C5BAB97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723E7327-3864-4C44-8450-46DC8BD0E3F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5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14960"/>
            <a:ext cx="5486400" cy="40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040" rIns="8604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lcome and introductions – name, position, board 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73D1-F1F7-4DFF-AF38-DEA7A832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01AA-A2D0-4358-9DA0-A5A131EA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332E-8CA1-459B-A2ED-C4AB1E61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5737-8C67-44AB-8F7A-48348806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61AF-B8D3-43D5-9A4B-BEAB3F842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8BF5-155F-4C6F-B6A4-34F34F04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C8C3-9EBE-4B57-98EC-509D4EB6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75B0-8D86-4A03-B0DF-5361CF8E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3DFA-E981-46AE-A72C-E7FD8688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3B52-233E-486D-9611-65D64D66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4958-9C38-4D22-A61B-F153B76D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9120-436E-4394-9844-6CF7DEEA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5892-6AC5-4D11-8258-328BC1A9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6369-2851-40B3-BCFB-092F130E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8835-AA6D-4E55-A8ED-5C544CD6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F9C0-A89E-4040-9A70-705FD2F3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BF8E-FEF3-40DE-8D3F-17396016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C0D5-0C06-4474-B442-932E81F7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82C2-5F43-47EE-93B1-71B6239F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60FE-6C35-41D7-92DF-18560065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0463-EE79-4960-8B4C-27799F73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ABE5-DC6C-459A-AA12-913DC70E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D2BC-943B-430D-AECA-5BC742D1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6351-DC51-4F7D-AD8B-D8A9C38F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8584-B560-43A1-933B-B005ADC7BE1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0C19-2FF4-4873-A475-31180A827E2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GAINS_Globe_70smws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C5D3-4D32-4DC8-807F-4844746CD75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159984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Linear Growing Patterns &amp; Relations</a:t>
            </a:r>
            <a:br>
              <a:rPr sz="4400"/>
            </a:b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Session 3</a:t>
            </a:r>
            <a:br>
              <a:rPr sz="44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42840" y="4055760"/>
            <a:ext cx="5715000" cy="128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entury Gothic"/>
              </a:rPr>
              <a:t>Summer In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entury Gothic"/>
              </a:rPr>
              <a:t>August 26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28"/>
          <p:cNvSpPr/>
          <p:nvPr/>
        </p:nvSpPr>
        <p:spPr>
          <a:xfrm>
            <a:off x="2743200" y="5867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entury Gothic"/>
              </a:rPr>
              <a:t>Kaye Apple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entury Gothic"/>
              </a:rPr>
              <a:t>Silvana Sim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E269-3F2E-4DDB-8B3B-3AA3F218136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0440" y="560160"/>
            <a:ext cx="8207280" cy="19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3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Patterning &amp; Linear </a:t>
            </a:r>
            <a:br>
              <a:rPr sz="4400"/>
            </a:b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Relations Manipulatives &amp; Technology Carousel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9360" y="2932200"/>
            <a:ext cx="456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b78c"/>
                </a:solidFill>
                <a:latin typeface="Century Gothic"/>
              </a:rPr>
              <a:t>Explore these 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604800" y="3470400"/>
            <a:ext cx="81327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42576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tation A:  TI-Nspire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Station F:   Square T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42576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tation B:  CBR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Station G:  Growing Pattern C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42576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tation C:  Gizmos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Station H:  Real-lif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42576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tation D:  CLIPS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Station I:  Matching Re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42576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tation E:   GSP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Station J:  Algebra T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2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037B-C333-4A8F-B18C-022CC5B9310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22400" y="2378160"/>
            <a:ext cx="8897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How do the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 </a:t>
            </a: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connect to Big Ideas 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Learning Goals?</a:t>
            </a: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2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8883-FE8B-471A-A6E7-4153DF60C3C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50840" y="2787480"/>
            <a:ext cx="3882960" cy="37990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"/>
          <p:cNvSpPr/>
          <p:nvPr/>
        </p:nvSpPr>
        <p:spPr>
          <a:xfrm>
            <a:off x="325440" y="1039680"/>
            <a:ext cx="84758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What Mathematical Processes</a:t>
            </a:r>
            <a:br>
              <a:rPr sz="4400"/>
            </a:b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did you experience</a:t>
            </a:r>
            <a:br>
              <a:rPr sz="4400"/>
            </a:b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when answering </a:t>
            </a:r>
            <a:br>
              <a:rPr sz="4400"/>
            </a:b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the tas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2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DC41-8392-4E74-8D24-2D56D667AF0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774720" y="2376360"/>
            <a:ext cx="7556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How can the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help students over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stumbling bloc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2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1577-4354-44F7-9E67-EB7DB18554E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289800" y="2037960"/>
            <a:ext cx="8562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What open or parallel </a:t>
            </a:r>
            <a:br>
              <a:rPr sz="4400"/>
            </a:b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questions could be asked </a:t>
            </a:r>
            <a:br>
              <a:rPr sz="4400"/>
            </a:b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so all stu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 </a:t>
            </a: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have an entry poi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2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3EAB-D9FA-4BF9-88CC-AE42B026A5B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793800" y="2376360"/>
            <a:ext cx="7556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How can it be used to </a:t>
            </a:r>
            <a:br>
              <a:rPr sz="4400"/>
            </a:b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prom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 </a:t>
            </a: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math discour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2C13-9212-407C-AC9D-B125F9977BA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1218960"/>
            <a:ext cx="8480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Reflecting on today’s activiti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Which activities would I like to integrate into my program? 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What do I need to learn more ab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9B15-5612-420A-B178-3F36AEACDD7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Task: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449280" y="220968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Create a parallel task that is appropriate for your learning go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1:11:23Z</dcterms:created>
  <dc:creator>Myrna Ingalls</dc:creator>
  <dc:description/>
  <dc:language>en-US</dc:language>
  <cp:lastModifiedBy>Anthony</cp:lastModifiedBy>
  <dcterms:modified xsi:type="dcterms:W3CDTF">2009-08-24T05:37:57Z</dcterms:modified>
  <cp:revision>152</cp:revision>
  <dc:subject/>
  <dc:title>Math GAINS 2008-09</dc:title>
</cp:coreProperties>
</file>